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EEE7-F2D2-42DE-8FFD-2896545790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7BE7-5C7D-4206-B59D-CADCEF5F1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D13A-C23B-47A5-A9B3-48ADA1078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6573-CAB9-4833-B80C-E4C20ADEC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3B96-894A-43BD-AA58-6D5945FA52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CCF2-F764-4736-BA35-8024C44270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16F1-D022-4C6B-BF86-21B777C93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0E37-763C-40B4-A30E-D846067E8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2E89-D156-412F-95CC-D370C39E6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2066-B517-421D-B35A-961E54A60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C285-878A-4C69-B3E7-6E33F61AE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4F91-7138-461F-AE36-27F24BCA0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E6C1-FFB3-44A1-A383-96DDBE872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711-6593-4B31-9FF6-669DDF77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D20-5AAC-4793-A74C-7A112682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74A-D1F0-4988-90BC-4F65765B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A08-B5BA-468B-A05D-F7C0E7B6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760C-016F-41F6-90DD-D9777D0E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315F-66AF-4350-B91C-3890DB14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50BF-9DD6-4574-A433-34E2BCEE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1782-1B4A-4531-B15B-F4042DE7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FCEB-DCE4-4AB7-B573-E3E012CF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990C-D46C-4E4E-AE2E-49A3AF29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ECFD-FE96-4568-AC63-1ABD865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344-A9E2-4F5B-A502-D7F14202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3FD2-E9AB-4980-B380-54778B5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7E1A-B7FE-463A-A186-9E214D2B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D1EF-2873-464E-9DC8-F285E3EA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B75F-C19F-4AE9-91DF-8AA5ED40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56F6-8D84-4A38-B94B-142ABB69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40D8-C845-4866-9EB9-FD9010A5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F48B-2A76-46B8-BD19-EC401229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6BA9-6EC3-4E36-859A-2663B8A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6184-AA2B-4B2A-8DB7-B2EE52E0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03325-7FB9-4FFF-B3D2-59AB4764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3B3-488D-4F0E-8A1F-15291695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7CDD4-8AA6-4E46-97F3-3C25872F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543D-2DBE-4393-A0EE-E184076A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FC92-EE65-4CE5-8BDF-E313FB8B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6692E-3FED-46A1-A523-0F449058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EA2C-0E4C-4E50-846F-87B319C7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35B1E-46E1-48B9-8D5C-F01C3533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44B3-C05C-455E-85E6-F32AABA9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312F5-ECA8-4547-9B27-F797EAB7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9EB94-67F2-417C-A152-7CE5C75A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0991E-E4EA-4D64-B34E-811DC9F0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918-75F7-462D-8AB2-A0B95F1D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8736-A775-4463-B163-68E38C28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80C45-C123-470A-AE68-758CEE8A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E9FA-A9F7-4A67-85D7-0CB0807F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538C-42BA-48D1-B6B3-4FF9EDC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F74B5-4839-440A-850C-F0CE1E3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A7DB-9EE4-425E-8D7A-870DAFD6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AB24-9AA0-42B6-B712-14E065D4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194B-F9D9-400F-BE4F-0330DBDD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744E6-A64C-412F-9295-7BA2C2D0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5EC-5AF2-4D1F-9D51-D438BA4D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E4E-7ABD-4FAD-A5B7-435D762B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69E-9439-4FA2-BB06-F9990BD7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48F-6CD0-4CAA-BDD9-2CADB9DF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0AC-B866-4C1E-8805-BE5E082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7DBC-F5D2-4AF4-9792-E1F6F4F9BB2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961-A054-4A8C-B6C1-079FB9083724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56A7-DA87-4A65-9D6E-494B1A16D3E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453A-1376-4B4E-91D2-5B0034490946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2699-C275-420A-809F-87CFF20CB44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16E5-916A-47AB-81A5-B1939B1D7AAF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2945-A02A-45B9-AF0F-9F4855BFEE6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95C-E7E5-4ECF-AEF0-1493CC32529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b3d9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оль миссии и целей в стратегическом упр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125360"/>
          <a:ext cx="8072640" cy="5187960"/>
        </p:xfrm>
        <a:graphic>
          <a:graphicData uri="http://schemas.openxmlformats.org/drawingml/2006/table">
            <a:tbl>
              <a:tblPr/>
              <a:tblGrid>
                <a:gridCol w="2695680"/>
                <a:gridCol w="5376960"/>
              </a:tblGrid>
              <a:tr h="40356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выражены движением денежной наличности, структурой капитала, выпуском ценных бумаг, оборотным капиталом, выплатой дивиде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описать с помощью таких показателей, как: производственные мощности, постоянные затраты, единицы продукции в натуральном и денежном выра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проце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изменения в структуре или деятель­ности, может выражаться любым количеством ц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могут определять выполнение трудовых функций и отношение к работе, профессиональ­ное обучение, способы мотивации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целями в форме видов деятельности, ориентированных на участие в ре­шении острых социальных проблем (экология, безрабо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Дерево целей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428760" y="2071800"/>
            <a:ext cx="8286120" cy="3142800"/>
            <a:chOff x="428760" y="2071800"/>
            <a:chExt cx="8286120" cy="3142800"/>
          </a:xfrm>
        </p:grpSpPr>
        <p:grpSp>
          <p:nvGrpSpPr>
            <p:cNvPr id="252" name="Group 2"/>
            <p:cNvGrpSpPr/>
            <p:nvPr/>
          </p:nvGrpSpPr>
          <p:grpSpPr>
            <a:xfrm>
              <a:off x="428760" y="2071800"/>
              <a:ext cx="8286120" cy="3142800"/>
              <a:chOff x="428760" y="2071800"/>
              <a:chExt cx="8286120" cy="3142800"/>
            </a:xfrm>
          </p:grpSpPr>
          <p:sp>
            <p:nvSpPr>
              <p:cNvPr id="253" name="Oval 3"/>
              <p:cNvSpPr/>
              <p:nvPr/>
            </p:nvSpPr>
            <p:spPr>
              <a:xfrm>
                <a:off x="2883960" y="2071800"/>
                <a:ext cx="337608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Общая цель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"/>
              <p:cNvSpPr/>
              <p:nvPr/>
            </p:nvSpPr>
            <p:spPr>
              <a:xfrm flipH="1">
                <a:off x="18097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"/>
              <p:cNvSpPr/>
              <p:nvPr/>
            </p:nvSpPr>
            <p:spPr>
              <a:xfrm flipH="1">
                <a:off x="3651120" y="2811240"/>
                <a:ext cx="15336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>
                <a:off x="5339160" y="2811240"/>
                <a:ext cx="30672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61063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8"/>
              <p:cNvSpPr/>
              <p:nvPr/>
            </p:nvSpPr>
            <p:spPr>
              <a:xfrm>
                <a:off x="2286360" y="3000240"/>
                <a:ext cx="491040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Ключевые цели по подсистемам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9"/>
              <p:cNvGrpSpPr/>
              <p:nvPr/>
            </p:nvGrpSpPr>
            <p:grpSpPr>
              <a:xfrm>
                <a:off x="428760" y="4105800"/>
                <a:ext cx="1688040" cy="1108800"/>
                <a:chOff x="428760" y="4105800"/>
                <a:chExt cx="1688040" cy="1108800"/>
              </a:xfrm>
            </p:grpSpPr>
            <p:sp>
              <p:nvSpPr>
                <p:cNvPr id="260" name="Oval 10"/>
                <p:cNvSpPr/>
                <p:nvPr/>
              </p:nvSpPr>
              <p:spPr>
                <a:xfrm>
                  <a:off x="4287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1"/>
                <p:cNvSpPr/>
                <p:nvPr/>
              </p:nvSpPr>
              <p:spPr>
                <a:xfrm>
                  <a:off x="10425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2"/>
                <p:cNvSpPr/>
                <p:nvPr/>
              </p:nvSpPr>
              <p:spPr>
                <a:xfrm>
                  <a:off x="16563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3"/>
                <p:cNvSpPr/>
                <p:nvPr/>
              </p:nvSpPr>
              <p:spPr>
                <a:xfrm flipH="1">
                  <a:off x="58212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>
                  <a:off x="119592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"/>
                <p:cNvSpPr/>
                <p:nvPr/>
              </p:nvSpPr>
              <p:spPr>
                <a:xfrm>
                  <a:off x="16563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Oval 16"/>
              <p:cNvSpPr/>
              <p:nvPr/>
            </p:nvSpPr>
            <p:spPr>
              <a:xfrm>
                <a:off x="42876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роизводст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7"/>
              <p:cNvGrpSpPr/>
              <p:nvPr/>
            </p:nvGrpSpPr>
            <p:grpSpPr>
              <a:xfrm>
                <a:off x="2576880" y="4105800"/>
                <a:ext cx="1687320" cy="1108800"/>
                <a:chOff x="2576880" y="4105800"/>
                <a:chExt cx="1687320" cy="1108800"/>
              </a:xfrm>
            </p:grpSpPr>
            <p:sp>
              <p:nvSpPr>
                <p:cNvPr id="268" name="Oval 18"/>
                <p:cNvSpPr/>
                <p:nvPr/>
              </p:nvSpPr>
              <p:spPr>
                <a:xfrm>
                  <a:off x="257688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9"/>
                <p:cNvSpPr/>
                <p:nvPr/>
              </p:nvSpPr>
              <p:spPr>
                <a:xfrm>
                  <a:off x="31903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0"/>
                <p:cNvSpPr/>
                <p:nvPr/>
              </p:nvSpPr>
              <p:spPr>
                <a:xfrm>
                  <a:off x="38041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21"/>
                <p:cNvSpPr/>
                <p:nvPr/>
              </p:nvSpPr>
              <p:spPr>
                <a:xfrm flipH="1">
                  <a:off x="273024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2"/>
                <p:cNvSpPr/>
                <p:nvPr/>
              </p:nvSpPr>
              <p:spPr>
                <a:xfrm>
                  <a:off x="334404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3"/>
                <p:cNvSpPr/>
                <p:nvPr/>
              </p:nvSpPr>
              <p:spPr>
                <a:xfrm>
                  <a:off x="380412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Oval 24"/>
              <p:cNvSpPr/>
              <p:nvPr/>
            </p:nvSpPr>
            <p:spPr>
              <a:xfrm>
                <a:off x="24235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Маркетин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25"/>
              <p:cNvGrpSpPr/>
              <p:nvPr/>
            </p:nvGrpSpPr>
            <p:grpSpPr>
              <a:xfrm>
                <a:off x="4878720" y="4105800"/>
                <a:ext cx="1687320" cy="1108800"/>
                <a:chOff x="4878720" y="4105800"/>
                <a:chExt cx="1687320" cy="1108800"/>
              </a:xfrm>
            </p:grpSpPr>
            <p:sp>
              <p:nvSpPr>
                <p:cNvPr id="276" name="Oval 26"/>
                <p:cNvSpPr/>
                <p:nvPr/>
              </p:nvSpPr>
              <p:spPr>
                <a:xfrm>
                  <a:off x="48787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"/>
                <p:cNvSpPr/>
                <p:nvPr/>
              </p:nvSpPr>
              <p:spPr>
                <a:xfrm>
                  <a:off x="54921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"/>
                <p:cNvSpPr/>
                <p:nvPr/>
              </p:nvSpPr>
              <p:spPr>
                <a:xfrm>
                  <a:off x="61059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9"/>
                <p:cNvSpPr/>
                <p:nvPr/>
              </p:nvSpPr>
              <p:spPr>
                <a:xfrm flipH="1">
                  <a:off x="503208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30"/>
                <p:cNvSpPr/>
                <p:nvPr/>
              </p:nvSpPr>
              <p:spPr>
                <a:xfrm>
                  <a:off x="564588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31"/>
                <p:cNvSpPr/>
                <p:nvPr/>
              </p:nvSpPr>
              <p:spPr>
                <a:xfrm>
                  <a:off x="61059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"/>
              <p:cNvGrpSpPr/>
              <p:nvPr/>
            </p:nvGrpSpPr>
            <p:grpSpPr>
              <a:xfrm>
                <a:off x="7027200" y="4105800"/>
                <a:ext cx="1687320" cy="1108800"/>
                <a:chOff x="7027200" y="4105800"/>
                <a:chExt cx="1687320" cy="1108800"/>
              </a:xfrm>
            </p:grpSpPr>
            <p:sp>
              <p:nvSpPr>
                <p:cNvPr id="283" name="Oval 33"/>
                <p:cNvSpPr/>
                <p:nvPr/>
              </p:nvSpPr>
              <p:spPr>
                <a:xfrm>
                  <a:off x="702720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34"/>
                <p:cNvSpPr/>
                <p:nvPr/>
              </p:nvSpPr>
              <p:spPr>
                <a:xfrm>
                  <a:off x="76406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5"/>
                <p:cNvSpPr/>
                <p:nvPr/>
              </p:nvSpPr>
              <p:spPr>
                <a:xfrm>
                  <a:off x="82544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36"/>
                <p:cNvSpPr/>
                <p:nvPr/>
              </p:nvSpPr>
              <p:spPr>
                <a:xfrm flipH="1">
                  <a:off x="718056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37"/>
                <p:cNvSpPr/>
                <p:nvPr/>
              </p:nvSpPr>
              <p:spPr>
                <a:xfrm>
                  <a:off x="779436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38"/>
                <p:cNvSpPr/>
                <p:nvPr/>
              </p:nvSpPr>
              <p:spPr>
                <a:xfrm>
                  <a:off x="825444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Oval 39"/>
              <p:cNvSpPr/>
              <p:nvPr/>
            </p:nvSpPr>
            <p:spPr>
              <a:xfrm>
                <a:off x="67201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Финанс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40"/>
              <p:cNvSpPr/>
              <p:nvPr/>
            </p:nvSpPr>
            <p:spPr>
              <a:xfrm>
                <a:off x="457200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ерсон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41"/>
            <p:cNvSpPr/>
            <p:nvPr/>
          </p:nvSpPr>
          <p:spPr>
            <a:xfrm>
              <a:off x="714240" y="4290480"/>
              <a:ext cx="76435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дцели по подсистемам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Правила декомпози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ая цель должна содержать описание конечного результа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развертывании общей цели в иерархическую структуру исходят из того, что реализация подцелей каждого последующего уровня является необходимым и достаточным условием достижения целей предыдуще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формулировке целей разных уровней необходимо описывать желаемые результаты, а не способы их полу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цели каждого уровня должны быть независимы друг от друга и невыводимы друг из друг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 дерева целей должны составлять задачи, представляющие собой формулировку работ, которые могут быть выполнены определенным способом в установленные сро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354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Видение организации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— это образное представление смысла деятельности и перспектив (будущего) организации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иде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ъясняет и демонстрирует всем сотрудникам и общественнос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представляет собой организац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ой она должна ста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 чему она стремит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Мисс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одним из главных элементов идеологической базы формирова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должна зависеть от текущего состоя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жает устремленность в будущ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комплексной цель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ает значительную роль как во внутренней, так и во внешней сред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одходы к формированию мисс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ирок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зк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Формулировка миссии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содержа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сферы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чие принципы фирмы по отношению к окружающей сред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ценности внутри фирмы, рассматриваемые как культура организ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Заинтересованные группы в формулировке миссии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0040" y="1571760"/>
          <a:ext cx="8286840" cy="5073480"/>
        </p:xfrm>
        <a:graphic>
          <a:graphicData uri="http://schemas.openxmlformats.org/drawingml/2006/table">
            <a:tbl>
              <a:tblPr/>
              <a:tblGrid>
                <a:gridCol w="2170080"/>
                <a:gridCol w="6116760"/>
              </a:tblGrid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является клиентами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/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товары/услуги предлагают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фирма ведет конкурентную борьб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базовая технология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выж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экономическую цель преследует фир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базовые убеждения, ценности и приоритетные устрем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ый об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кому имиджу стремится фирма и какую ответственность перед обществом она приним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озиция фирмы по отношению к своему персона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заявляемые отличительные каче­ства и конкурентные преимущест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Определение цели -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более конкретный, чем миссия, уровень принятия решений, требующий выработки соответствующих стратегических задач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ледует различать цел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цифическ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роцесс постановки целей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основном происходит сверху вни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ждый руководитель должен иметь четкие цели, которые обеспечивают поддержку целей более высоко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процессе выработки целей, необходим двусторонний обмен информаци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Эффективность целей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- это базовый критерий стратегического целеполаган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Цели должны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ретными и измеримы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ированными во времен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стич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поставимыми и взаимно поддерживающи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960" y="1571760"/>
          <a:ext cx="8072280" cy="5227560"/>
        </p:xfrm>
        <a:graphic>
          <a:graphicData uri="http://schemas.openxmlformats.org/drawingml/2006/table">
            <a:tbl>
              <a:tblPr/>
              <a:tblGrid>
                <a:gridCol w="2695680"/>
                <a:gridCol w="5376600"/>
              </a:tblGrid>
              <a:tr h="40320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12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выражаться в различных показателях, таких как объем прибыли, доход на инвестиро­ванный капитал, отношение прибыли к объему продаж (коэффициент чистой прибыли)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описываться следующими понятиями: доля рынка, объем продаж в денежном или натуральном выражении, рыночная (отраслевая) ни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отношением выхода к входу, а также в виде издержек на единицу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но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новые способы ведения бизнеса (новые технологии и методы организации производства, внедрение на новые рынки и т. д.) и могут выражаться как в денежных, так и в дру­гих показа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показателей объема продаж или прибыль­ности по отношению к конкретному изделию (ассортименту изделий) цели могут быть связа­ны с выведением нового товара на рынок или снятия с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1:10:41Z</dcterms:created>
  <dc:creator>И.В.</dc:creator>
  <dc:description/>
  <dc:language>en-US</dc:language>
  <cp:lastModifiedBy>Толя</cp:lastModifiedBy>
  <dcterms:modified xsi:type="dcterms:W3CDTF">2014-12-01T07:03:41Z</dcterms:modified>
  <cp:revision>14</cp:revision>
  <dc:subject/>
  <dc:title>Тема6 - Роль миссии и целей организации в стратегическом управлении</dc:title>
</cp:coreProperties>
</file>